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C3B-B6F5-44E7-9FB1-C9DA6198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53C-206B-4050-A377-FDF23BB3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93A-285D-4FB5-B374-61EA6A9D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AAD-68F5-4AAA-AC80-A071E747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D697-67B6-405B-9B47-12EC4967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C4C8-81BB-426D-8BC0-DC2A67A2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07F9-62D4-4687-8892-A496F304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B742-CD8C-4022-8DEE-6A673C21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2AD7-1808-49C8-A0EE-D2B48B11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61AF-C66F-4834-AA9D-F1A1EC72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C2DE-D681-4D8A-9FE2-60B71E2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51C-4778-4440-BC71-89B3701C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A843-2624-4E20-9D72-8B731393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E561-7537-44F6-9BCC-5D76474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AAB0-B20F-40D3-A14C-A95797EA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CFC4-3F25-4AC6-BA50-432985C9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9E70-0C7F-48A8-8C03-F0EC87BA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0F0-4023-45AE-AC88-449E7BC6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6EA-780B-4425-B10B-4CF2BA94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389-2B02-4BDE-A213-4FC18929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73D-4F79-4CCD-8281-56EF450C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9E1-4F62-48C4-BECD-D0382AF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96F-6537-4077-8E55-6643834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55C-81A1-4DB8-9377-4874A5B2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03F7-2D06-4391-BB5A-9A4D527B8B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16DA-3888-444B-A80E-072D53971E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Vietna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3095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liday T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-Watermelon and sweet rice cakes.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t is celebrated because of a series of wars in the Vietnam W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228600"/>
            <a:ext cx="1752480" cy="1295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50120" y="48322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ke thes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information on Te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thing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ar red to symbolize Good l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oliday is celebrated in late Janu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057400"/>
            <a:ext cx="3200400" cy="2895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99280" y="5213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etnam’s 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been hard for Vietnam because of a lot of wars.China controlled the northern part until 939(that’s over 1,000 years ago).They have a holiday called Tet to celebrate a series of battles in the Vietnam Wa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403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etnam is a small country, shaped like an 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capital is Hano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bordering countries are Laos, China, Thailand, and Cambod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292428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05560" y="990720"/>
            <a:ext cx="1266840" cy="4597200"/>
          </a:xfrm>
          <a:custGeom>
            <a:avLst/>
            <a:gdLst/>
            <a:ahLst/>
            <a:rect l="l" t="t" r="r" b="b"/>
            <a:pathLst>
              <a:path w="798" h="2896">
                <a:moveTo>
                  <a:pt x="311" y="0"/>
                </a:moveTo>
                <a:cubicBezTo>
                  <a:pt x="297" y="89"/>
                  <a:pt x="256" y="170"/>
                  <a:pt x="236" y="258"/>
                </a:cubicBezTo>
                <a:cubicBezTo>
                  <a:pt x="216" y="345"/>
                  <a:pt x="205" y="458"/>
                  <a:pt x="153" y="534"/>
                </a:cubicBezTo>
                <a:cubicBezTo>
                  <a:pt x="141" y="570"/>
                  <a:pt x="120" y="600"/>
                  <a:pt x="103" y="634"/>
                </a:cubicBezTo>
                <a:cubicBezTo>
                  <a:pt x="86" y="668"/>
                  <a:pt x="83" y="702"/>
                  <a:pt x="61" y="734"/>
                </a:cubicBezTo>
                <a:cubicBezTo>
                  <a:pt x="35" y="815"/>
                  <a:pt x="0" y="934"/>
                  <a:pt x="94" y="960"/>
                </a:cubicBezTo>
                <a:cubicBezTo>
                  <a:pt x="115" y="1018"/>
                  <a:pt x="217" y="1074"/>
                  <a:pt x="270" y="1118"/>
                </a:cubicBezTo>
                <a:cubicBezTo>
                  <a:pt x="338" y="1175"/>
                  <a:pt x="361" y="1258"/>
                  <a:pt x="412" y="1327"/>
                </a:cubicBezTo>
                <a:cubicBezTo>
                  <a:pt x="425" y="1367"/>
                  <a:pt x="459" y="1396"/>
                  <a:pt x="478" y="1435"/>
                </a:cubicBezTo>
                <a:cubicBezTo>
                  <a:pt x="490" y="1458"/>
                  <a:pt x="498" y="1488"/>
                  <a:pt x="512" y="1510"/>
                </a:cubicBezTo>
                <a:cubicBezTo>
                  <a:pt x="533" y="1541"/>
                  <a:pt x="559" y="1569"/>
                  <a:pt x="579" y="1602"/>
                </a:cubicBezTo>
                <a:cubicBezTo>
                  <a:pt x="586" y="1613"/>
                  <a:pt x="589" y="1625"/>
                  <a:pt x="595" y="1636"/>
                </a:cubicBezTo>
                <a:cubicBezTo>
                  <a:pt x="603" y="1650"/>
                  <a:pt x="611" y="1664"/>
                  <a:pt x="620" y="1677"/>
                </a:cubicBezTo>
                <a:cubicBezTo>
                  <a:pt x="645" y="1714"/>
                  <a:pt x="681" y="1754"/>
                  <a:pt x="704" y="1794"/>
                </a:cubicBezTo>
                <a:cubicBezTo>
                  <a:pt x="723" y="1826"/>
                  <a:pt x="743" y="1858"/>
                  <a:pt x="754" y="1894"/>
                </a:cubicBezTo>
                <a:cubicBezTo>
                  <a:pt x="767" y="1935"/>
                  <a:pt x="772" y="1976"/>
                  <a:pt x="796" y="2011"/>
                </a:cubicBezTo>
                <a:cubicBezTo>
                  <a:pt x="793" y="2131"/>
                  <a:pt x="798" y="2251"/>
                  <a:pt x="787" y="2370"/>
                </a:cubicBezTo>
                <a:cubicBezTo>
                  <a:pt x="786" y="2380"/>
                  <a:pt x="769" y="2380"/>
                  <a:pt x="762" y="2387"/>
                </a:cubicBezTo>
                <a:cubicBezTo>
                  <a:pt x="721" y="2428"/>
                  <a:pt x="723" y="2444"/>
                  <a:pt x="670" y="2479"/>
                </a:cubicBezTo>
                <a:cubicBezTo>
                  <a:pt x="662" y="2485"/>
                  <a:pt x="645" y="2496"/>
                  <a:pt x="645" y="2496"/>
                </a:cubicBezTo>
                <a:cubicBezTo>
                  <a:pt x="634" y="2513"/>
                  <a:pt x="623" y="2529"/>
                  <a:pt x="612" y="2546"/>
                </a:cubicBezTo>
                <a:cubicBezTo>
                  <a:pt x="606" y="2554"/>
                  <a:pt x="595" y="2571"/>
                  <a:pt x="595" y="2571"/>
                </a:cubicBezTo>
                <a:cubicBezTo>
                  <a:pt x="584" y="2605"/>
                  <a:pt x="569" y="2609"/>
                  <a:pt x="537" y="2621"/>
                </a:cubicBezTo>
                <a:cubicBezTo>
                  <a:pt x="522" y="2636"/>
                  <a:pt x="510" y="2656"/>
                  <a:pt x="495" y="2671"/>
                </a:cubicBezTo>
                <a:cubicBezTo>
                  <a:pt x="488" y="2678"/>
                  <a:pt x="477" y="2681"/>
                  <a:pt x="470" y="2688"/>
                </a:cubicBezTo>
                <a:cubicBezTo>
                  <a:pt x="460" y="2698"/>
                  <a:pt x="456" y="2712"/>
                  <a:pt x="445" y="2721"/>
                </a:cubicBezTo>
                <a:cubicBezTo>
                  <a:pt x="425" y="2737"/>
                  <a:pt x="395" y="2733"/>
                  <a:pt x="370" y="2738"/>
                </a:cubicBezTo>
                <a:cubicBezTo>
                  <a:pt x="362" y="2743"/>
                  <a:pt x="354" y="2750"/>
                  <a:pt x="345" y="2754"/>
                </a:cubicBezTo>
                <a:cubicBezTo>
                  <a:pt x="334" y="2759"/>
                  <a:pt x="321" y="2756"/>
                  <a:pt x="311" y="2763"/>
                </a:cubicBezTo>
                <a:cubicBezTo>
                  <a:pt x="239" y="2812"/>
                  <a:pt x="349" y="2771"/>
                  <a:pt x="270" y="2796"/>
                </a:cubicBezTo>
                <a:cubicBezTo>
                  <a:pt x="214" y="2834"/>
                  <a:pt x="284" y="2792"/>
                  <a:pt x="186" y="2821"/>
                </a:cubicBezTo>
                <a:cubicBezTo>
                  <a:pt x="168" y="2826"/>
                  <a:pt x="154" y="2840"/>
                  <a:pt x="136" y="2846"/>
                </a:cubicBezTo>
                <a:cubicBezTo>
                  <a:pt x="90" y="2877"/>
                  <a:pt x="131" y="2855"/>
                  <a:pt x="53" y="2871"/>
                </a:cubicBezTo>
                <a:cubicBezTo>
                  <a:pt x="35" y="2875"/>
                  <a:pt x="3" y="2896"/>
                  <a:pt x="3" y="289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809880" y="1523880"/>
            <a:ext cx="2743200" cy="1067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s rivers are the Red River and the Mekong River and its sea is the South China Se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has a lot of mountain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is a picture the Mekong riv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581640" cy="3048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8534160" y="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153280" y="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867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9436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mat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- Subtrop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 - Wet dry periods, also subtrop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cture of a dry peri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3429000" y="4266720"/>
            <a:ext cx="1600200" cy="838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ople and Culture     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ey -  D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- Vietnam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n - Buddhism, Roman Catholic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047760" cy="4216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64880" y="44974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etnames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876920" y="4495320"/>
            <a:ext cx="114300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 lot of children in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3809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09720" y="18288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e, chopped vegetables, meat and fis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6483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they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ish and plant 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53000" y="4191120"/>
            <a:ext cx="35910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8:34:40Z</dcterms:created>
  <dc:creator>abelanger</dc:creator>
  <dc:description/>
  <dc:language>en-US</dc:language>
  <cp:lastModifiedBy>abelanger</cp:lastModifiedBy>
  <dcterms:modified xsi:type="dcterms:W3CDTF">2007-05-17T17:38:19Z</dcterms:modified>
  <cp:revision>12</cp:revision>
  <dc:subject/>
  <dc:title>Vietnam</dc:title>
</cp:coreProperties>
</file>